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1216-DFC3-427C-9CD2-1222F096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0A3F-1664-4326-85A7-24E82821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1E67-D8F4-4401-816B-8D8C8D3B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6B9F-EEB0-4518-89D7-BF6A3396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5F91-CDFF-40D9-BFEE-32784288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C500-B842-4653-8890-426AE76E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6E6E-83DB-4073-B8BE-1610B914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68FC-C924-489A-992C-93884F81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ACD6-6B6D-48BE-A36B-846DBDF5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A8B6-762E-4233-9B6C-253EBFE5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6F29-6269-45CB-8075-346F5CF6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00E8-3FDE-429F-A02F-1E215A46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FEA2-1873-4628-839E-270E63E3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521D-46A7-496A-84FE-55CCCEEF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24BE-D59B-487F-A085-2B715EB9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611B-C23A-4DD8-B070-B0776AE5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A904-D26B-4596-A59F-A9668FAC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DB6A-B6C2-482D-916B-96A79664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98D4-38C8-4A85-B681-69965980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BF8A-FE8E-420B-B158-6C7BBED0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74B0-B192-438C-AB65-FCAEBA14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1F77-7C0E-4C95-897D-275D9ED0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1445-6F70-40E8-AEFF-AF7D979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1331-FEB2-4364-B3DB-1610DEC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C738-5FC9-4CE0-A6D8-ACB07C9B0C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525F-4A35-4790-AD30-E542C4F4E5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dding Text While PowerPoint Is Runn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ding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905040" y="1560600"/>
            <a:ext cx="593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Notes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m newstuff as St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stuff= InputBox("Type your message here!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newstuff &lt;&gt; ""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ctivePresentation.SlideShowWindow.View. Slide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Shapes(2).TextFrame.Text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Text = .Text +Chr$(13) + new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2960" y="4876920"/>
            <a:ext cx="8453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e name of the sub routine is Notes.  The variable is newstuff and we are s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e information as String( words or letters).  The &lt;&gt; "" tells the computer that w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want some kind of answer. The chr$(13) does a new line.  The fifth line tells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ollowing when the presentation is running in shape 2 add the variable new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You must keep track on the number f the textbox. Every object on a slide has a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172200"/>
            <a:ext cx="15264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56386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648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4040" y="3998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00760" y="1027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1143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0600" y="9144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9280" y="2895480"/>
            <a:ext cx="45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that every object that you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the screen has a numb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28:15Z</dcterms:created>
  <dc:creator>jnatale</dc:creator>
  <dc:description/>
  <dc:language>en-US</dc:language>
  <cp:lastModifiedBy>jnatale</cp:lastModifiedBy>
  <dcterms:modified xsi:type="dcterms:W3CDTF">2009-02-19T16:31:25Z</dcterms:modified>
  <cp:revision>3</cp:revision>
  <dc:subject/>
  <dc:title>Adding Text While PowerPoint Is Running</dc:title>
</cp:coreProperties>
</file>